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CAAC-13B0-409A-8524-5FC54A64B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8FB6-9F6A-4D89-BEE7-82E57E69E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10DC-4D4A-4874-B465-8963520C3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B61-D6BF-42CF-83CB-013A81EE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CB4-F00C-408D-9499-7794E16A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FAB-F18D-43A5-B30E-25C0AB84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508-13C2-4182-8200-CB862D98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3887-51AD-4B6C-B2DA-906766B5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AC8F-5277-47C2-9F5D-268D05BF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BD16-03D4-4F6B-8FE6-B0D3AFAC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8088-42F5-424B-9B0F-7F73B0FB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8CB0-85DB-436E-AE05-05A9DD9C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8589-24C4-4591-B4F3-C1B0FA02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D18B-1A2B-4DE3-A958-97A0C70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E18-3DB2-4AB5-95DA-2D61B285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5F90-DB30-4F69-BFB5-ED8ECD21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BEC0-DECB-434A-B412-4F00F55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3E24-1F6C-4406-AD2E-6C41E48E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E0FF-9859-42C7-B3B8-B80FE4B6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7166-0F9B-4658-9F46-AC0FE9FF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4536-2EE0-49EE-86B9-BDF5AAA4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B557-E3D9-44BB-92D6-B89884FE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EACE-8B36-4830-AEA0-98883738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25EE-F5AC-4724-A1B5-D0C167C3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4D27-BBD6-4A46-B6E5-22D3E52A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995-33BF-447D-AF83-4B1002FD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E2AC-390A-4537-9100-8B57F561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D6E9-0E81-4B1B-8B55-B265C9CB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6DEE-27B9-450C-B4E5-D26C709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6478-E5AA-487C-B63A-C55432F1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3DE3-CFAA-463D-8147-0D160454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B662-B5EF-40D1-B0B5-1C0B0A12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BDE84-7803-4275-A5C6-34B51971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049D-EB21-463E-A622-FCF77E04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DD5FF-679B-40E7-8586-B64E9676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FE50-662F-4203-A88F-7AB759DE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DF1-DFD7-45AF-90BC-2083C0D8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1CC9-BDF4-4043-BDA5-39A3C958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9934-E095-4B4C-A481-2B460E70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8BB9-12E0-48D1-8158-520F022A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C89A5-C072-4ED7-AB7E-6E12C577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A39D-514A-46A3-AC9F-C6CF34C2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EDBA-6982-4875-A30F-B06B0B3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8DA1-9C1F-4326-AFE3-DE49556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552DA-4081-4CCF-BF75-0F3AB2B2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7035-30A4-476E-AA1B-7A27F81C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86499-141B-41AB-A055-C896F2CF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41E-2BEB-467E-8C9F-1F6DF5A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484E0-D279-45F8-9C1B-0C60FEBF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842FC-4204-4E1F-9614-9FEBBBEB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A727B-C185-49F3-99F5-E460A72C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F59E7-E642-41A0-A6E4-CB0D78B0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D11B-E910-4DC2-924C-7057B81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CB5EA-3EA2-4873-914B-74C3D674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164B-3D7A-4D32-A63E-1254CB68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DC11E-5689-442A-94EC-CA7F7B42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8E45F-5626-40A3-81A1-CE59569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DB49E-8A8C-4672-BA72-1E5049AC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361-A628-4BE7-AC25-F298A2F9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C1320-28B7-48E9-82E0-4BBC69F9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3BA-4C2C-4D5D-A199-91A5EFE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C92-D053-4F12-B429-A8500674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0AF-7E42-48E2-A8C2-3FC236DC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7713-2AA6-49ED-ABF9-3CD9E6E85AAD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A01A-A9C9-4D0A-8393-58B5DF96152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2F46-2828-4DC4-9BA5-CEA30331FB1C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8846-BEAC-4EBB-9C1E-63069292B07C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27D3-66A9-473A-B63F-89F8AC9F1628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4015-524B-4E2A-B918-9EED17F9D86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CA37-54CC-4957-8AF9-B886963CAA8C}" type="datetime">
              <a:rPr b="0" lang="en-US" sz="1000" spc="-1" strike="noStrike">
                <a:solidFill>
                  <a:srgbClr val="f4e7ed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5542-7E9E-4864-B697-B8DAA5479932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5042-F18E-4A1F-8911-53E816CDB557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E7CD-C21F-4872-A716-BF674786A4C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82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21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Century Learn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Nadine Tibbs-Stallworth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8" descr="Technology.jpg"/>
          <p:cNvPicPr/>
          <p:nvPr/>
        </p:nvPicPr>
        <p:blipFill>
          <a:blip r:embed="rId3"/>
          <a:stretch/>
        </p:blipFill>
        <p:spPr>
          <a:xfrm>
            <a:off x="0" y="838080"/>
            <a:ext cx="26668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70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Traditional Environments</a:t>
            </a: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38120" y="17524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Emerging Learning Landscap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236232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acher directed memory-focused instruction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olated work on invented exerci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tual literal thinking for compete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91120" y="23623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udent-centered performance-focused lear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laborative work on authentic, real-work projec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eative thinking for innovation and orginal solu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5486400" y="632448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iste – www.iste.o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70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Traditional Environments</a:t>
            </a: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038120" y="17524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Emerging Learning Landscap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361960"/>
            <a:ext cx="3581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imary focus on school and local commun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olated assessment of lear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nowledge from limited, authoritative sour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191120" y="2362320"/>
            <a:ext cx="352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anded focus including digital global citizenshi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ed assessment for  lear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arner-constructed knowledge from multiple information sources and experien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601992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iste – www.iste.o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400880" cy="1317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335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ttp://www.youtube.com/watch?v=_A-ZVCjfWf8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4" descr="6619f211d53ad874.jpeg"/>
          <p:cNvPicPr/>
          <p:nvPr/>
        </p:nvPicPr>
        <p:blipFill>
          <a:blip r:embed="rId2"/>
          <a:stretch/>
        </p:blipFill>
        <p:spPr>
          <a:xfrm>
            <a:off x="1905120" y="3657600"/>
            <a:ext cx="4378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560"/>
            <a:ext cx="723888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s a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constant stream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professional decisions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ad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before, during and after interactions with the students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cisions which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when implemented, increase the probability of learning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4495680" y="6172200"/>
            <a:ext cx="31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adeline  Hunter, Author of </a:t>
            </a:r>
            <a:r>
              <a:rPr b="0" i="1" lang="en-US" sz="1000" spc="-1" strike="noStrike">
                <a:solidFill>
                  <a:srgbClr val="000000"/>
                </a:solidFill>
                <a:latin typeface="Trebuchet MS"/>
              </a:rPr>
              <a:t>Mastery Tea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533520" y="16761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oin the conversation Sign up now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ke conne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llaborative gro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fessional organization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ke minded peopl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ek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are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twitter.jpg"/>
          <p:cNvPicPr/>
          <p:nvPr/>
        </p:nvPicPr>
        <p:blipFill>
          <a:blip r:embed="rId2"/>
          <a:stretch/>
        </p:blipFill>
        <p:spPr>
          <a:xfrm>
            <a:off x="685800" y="380880"/>
            <a:ext cx="1270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ing lets you create and join new social networks for your interests and passion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 the classroom and ou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Student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an interact with each other to share ideas, collaborate on projects, keep notes, announce project status, project photos and vide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Teacher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an do the sa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5" descr="79b4814f8a0219fe.jpg"/>
          <p:cNvPicPr/>
          <p:nvPr/>
        </p:nvPicPr>
        <p:blipFill>
          <a:blip r:embed="rId2"/>
          <a:stretch/>
        </p:blipFill>
        <p:spPr>
          <a:xfrm>
            <a:off x="6858000" y="4191120"/>
            <a:ext cx="990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905120"/>
            <a:ext cx="72388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's fast, easy, and complete fre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can create a wiki page for anything that isn't pornographic, hateful, illeg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control who can view the page and who can edit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e Encyclopedia of Yo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981080"/>
            <a:ext cx="7238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iki Space pages can be connected to personal profiles and family &amp; friend pages on WikiTre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nables you to create pages for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ubs or organization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es or school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vents or vacation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ighborhoods or home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any other place or thing that's significant to you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980720"/>
            <a:ext cx="723888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 pages have sections f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asic data (name, dates, location)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wiki description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emories or personal statements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hotos, and 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ulletin board for discussing how to grow the page with other people you trust to view and edit it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3" descr="wikispaces.png"/>
          <p:cNvPicPr/>
          <p:nvPr/>
        </p:nvPicPr>
        <p:blipFill>
          <a:blip r:embed="rId2"/>
          <a:stretch/>
        </p:blipFill>
        <p:spPr>
          <a:xfrm>
            <a:off x="1600200" y="5181480"/>
            <a:ext cx="51055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Edmodo is a private social platform built for educa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gn up now. I am a teacher, or a stud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dmodo Feat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38080" y="3733920"/>
          <a:ext cx="6096240" cy="2125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croblog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tore and Share 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ivacy Contr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ublic Timeline (R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ifications (S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ass Calen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ssignments &amp; 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are Links and Emb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bscribe to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ke Twitter with more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About.com: Podca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ud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monstrate acquired knowled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laborative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liver cont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l &amp; Formal Assess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ow student creativity and interpretation of cont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sually engag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5:03:10Z</dcterms:created>
  <dc:creator>Nadine</dc:creator>
  <dc:description/>
  <dc:language>en-US</dc:language>
  <cp:lastModifiedBy>College of Education</cp:lastModifiedBy>
  <dcterms:modified xsi:type="dcterms:W3CDTF">2009-08-08T15:22:43Z</dcterms:modified>
  <cp:revision>16</cp:revision>
  <dc:subject/>
  <dc:title>Teaching </dc:title>
</cp:coreProperties>
</file>